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F34-DF99-4B94-8209-654044CD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0C5A-72F0-4BC4-9812-7210B189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5E77-7671-42C5-8206-5D870AA4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1F5-874F-434D-A00A-CFA10212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FBE-DD88-4BDC-B2E8-A6B39615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1DAF-68AC-4C62-A669-8EAF03CB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9006-C2D9-4207-9599-8541882A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054E-BCF2-4EE3-99D0-B6D0DCCC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FB80-3276-430F-9025-DFEA16C3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A133-9983-44DC-973A-E3B8A737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837C-3429-4829-9336-DB2ABE04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D8A2-57F8-488C-9E66-4C9B4A11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F1DD-6965-4420-8423-E05FA231A8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2800" y="2514600"/>
            <a:ext cx="806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701"/>
                </a:solidFill>
                <a:latin typeface="Arial"/>
              </a:rPr>
              <a:t>Assessing Confounding I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701"/>
                </a:solidFill>
                <a:latin typeface="Arial"/>
              </a:rPr>
              <a:t>Case-Control Stud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258920"/>
            <a:ext cx="62481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295280" y="1447920"/>
            <a:ext cx="64771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447920" y="1295280"/>
            <a:ext cx="624816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24696"/>
          <a:stretch/>
        </p:blipFill>
        <p:spPr>
          <a:xfrm>
            <a:off x="1371600" y="1828800"/>
            <a:ext cx="6477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371600" y="1447920"/>
            <a:ext cx="6400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1143000" y="1676520"/>
            <a:ext cx="6705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295280" y="1447920"/>
            <a:ext cx="64771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19320" y="1371600"/>
            <a:ext cx="670536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400800" y="5105520"/>
            <a:ext cx="1143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214280"/>
            <a:ext cx="647712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523880" y="1371600"/>
            <a:ext cx="601992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8T17:56:15Z</dcterms:modified>
  <cp:revision>218</cp:revision>
  <dc:subject/>
  <dc:title>Slide 1</dc:title>
</cp:coreProperties>
</file>